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84A85-EF1C-4F58-A4C2-EDDD58BF1C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87280" y="303264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42259-0844-4265-A85F-2FF1D880ED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728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6196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DA97B-DA7B-4C7B-850C-A912065CED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44000" y="2204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00720" y="2204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87280" y="3032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44000" y="3032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00720" y="3032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04641-4083-4359-A088-C11B567B88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9C37E-63AE-4FFF-A5E5-C720106087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7280" y="2204640"/>
            <a:ext cx="7561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6E015-5478-4C4C-AA07-326788A6BC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7561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D4DD3-929A-42B9-A6ED-38B5444FE0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332A1-4725-4A40-9523-9D9DF303B5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76CA6-04F4-4C95-8419-782A674A7F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15640" y="907920"/>
            <a:ext cx="755964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00E3A-9DA0-47F3-8100-E84E5CA5E0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728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5F558-2485-430F-85FA-4622A77E55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87280" y="2204640"/>
            <a:ext cx="7561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C1446-8CAA-4431-A01C-BF79F166D9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196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3B9FF-F238-407E-AED5-12AA006FA8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7280" y="303264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6F39D-D3B9-433A-B0D7-87A1BFCF85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7280" y="303264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F98BB-51A5-48AD-BEED-3D2202C432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728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196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4219D-49BB-4279-B210-3D30044105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44000" y="2204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00720" y="2204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7280" y="3032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44000" y="3032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00720" y="3032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479C7-209B-4C4A-BCD0-C429F2596B7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0A483-D259-4C6D-9895-C44CEFB473C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187280" y="2204640"/>
            <a:ext cx="7561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247A8-BB4F-458D-9091-15CF6D5CD5E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7561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4D70A-0A32-4C92-9945-6B66A400C8B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06875-66B7-4495-BE58-3013BB809B4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7B697-501B-49EB-813B-0251D2DC26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7561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AF4C9-669C-48C6-8CE3-62C4738670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115640" y="907920"/>
            <a:ext cx="755964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A62E9-3248-43A5-92AE-5CC526E63F0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8728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46321-8D68-404F-AF0D-5D664410946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6196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5ADAF-C72E-4B51-AB40-E6AF9B3611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87280" y="303264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7E3FF-5822-432F-8F28-04546AB70EE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187280" y="303264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2ED44-E798-4ED3-9AF9-6B17EE60109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728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6196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6518F-9E20-4722-A3D6-E9557A3D502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744000" y="2204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00720" y="2204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187280" y="3032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744000" y="3032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300720" y="3032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5CBDB-5281-4A68-BAEF-1C87C38E60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89D68-A726-4536-8DD7-5978C68F1F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F1D97-929F-4941-9F0A-E9305D5508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15640" y="907920"/>
            <a:ext cx="755964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C13CF-7DE5-4ADF-A64E-C5AF317D0D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8728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61764-B364-46B0-B262-08065CB72F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196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4D995-5B62-4C9E-B07E-B3C89D684A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87280" y="303264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C212C-DBBD-46E3-96F1-8AB92806B9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8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108000" y="6308280"/>
            <a:ext cx="8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5C15-F840-4975-BDDB-3B9FE69A511B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15640" y="2852280"/>
            <a:ext cx="755964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1258560" y="4365360"/>
            <a:ext cx="7488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-6156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3560" indent="-5112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05560" indent="-4104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288000" indent="-410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70080" indent="-4104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70080" indent="-4104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70080" indent="-4104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16"/>
          <p:cNvSpPr/>
          <p:nvPr/>
        </p:nvSpPr>
        <p:spPr>
          <a:xfrm rot="16200000">
            <a:off x="-780120" y="4556160"/>
            <a:ext cx="251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d8227"/>
                </a:solidFill>
                <a:latin typeface="Arial"/>
              </a:rPr>
              <a:t>EuroMPM</a:t>
            </a:r>
            <a:endParaRPr b="0" lang="en-US" sz="40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6" name="Text Box 17"/>
          <p:cNvSpPr/>
          <p:nvPr/>
        </p:nvSpPr>
        <p:spPr>
          <a:xfrm>
            <a:off x="1258920" y="5373720"/>
            <a:ext cx="75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</a:t>
            </a:r>
            <a:r>
              <a:rPr b="0" lang="de-DE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7" name="Text Box 18"/>
          <p:cNvSpPr/>
          <p:nvPr/>
        </p:nvSpPr>
        <p:spPr>
          <a:xfrm rot="16200000">
            <a:off x="-930960" y="1961280"/>
            <a:ext cx="288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University of Applied Sciences </a:t>
            </a:r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and Arts – Dortmund - Germany</a:t>
            </a:r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pic>
        <p:nvPicPr>
          <p:cNvPr id="8" name="Picture 24" descr=""/>
          <p:cNvPicPr/>
          <p:nvPr/>
        </p:nvPicPr>
        <p:blipFill>
          <a:blip r:embed="rId2"/>
          <a:stretch/>
        </p:blipFill>
        <p:spPr>
          <a:xfrm>
            <a:off x="108000" y="0"/>
            <a:ext cx="8287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c1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7"/>
          <p:cNvSpPr/>
          <p:nvPr/>
        </p:nvSpPr>
        <p:spPr>
          <a:xfrm>
            <a:off x="1042920" y="6237360"/>
            <a:ext cx="810108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19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2"/>
          </p:nvPr>
        </p:nvSpPr>
        <p:spPr>
          <a:xfrm>
            <a:off x="108000" y="6308280"/>
            <a:ext cx="8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8598-F1D7-44BA-B7DD-2B68A606D75B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1332000" y="6237000"/>
            <a:ext cx="54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1187280" y="2204640"/>
            <a:ext cx="7561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601"/>
              </a:spcBef>
              <a:buClr>
                <a:srgbClr val="3a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1" marL="363960" indent="-1400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2" marL="559800" indent="-11196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3" marL="784080" indent="-11196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4" marL="1008000" indent="-11196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5" marL="1008000" indent="-11196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6" marL="1008000" indent="-11196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51" name="Text Box 20"/>
          <p:cNvSpPr/>
          <p:nvPr/>
        </p:nvSpPr>
        <p:spPr>
          <a:xfrm>
            <a:off x="6877080" y="6237360"/>
            <a:ext cx="2266920" cy="30708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ca2d1"/>
                </a:solidFill>
                <a:latin typeface="Arial"/>
              </a:rPr>
              <a:t>Baris Izci</a:t>
            </a:r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52" name="Text Box 21"/>
          <p:cNvSpPr/>
          <p:nvPr/>
        </p:nvSpPr>
        <p:spPr>
          <a:xfrm>
            <a:off x="3759120" y="13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53" name="Text Box 23"/>
          <p:cNvSpPr/>
          <p:nvPr/>
        </p:nvSpPr>
        <p:spPr>
          <a:xfrm rot="16200000">
            <a:off x="-780120" y="4556160"/>
            <a:ext cx="251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d8227"/>
                </a:solidFill>
                <a:latin typeface="Arial"/>
              </a:rPr>
              <a:t>EuroMPM</a:t>
            </a:r>
            <a:endParaRPr b="0" lang="en-US" sz="40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54" name="Text Box 24"/>
          <p:cNvSpPr/>
          <p:nvPr/>
        </p:nvSpPr>
        <p:spPr>
          <a:xfrm rot="16200000">
            <a:off x="-911160" y="1909800"/>
            <a:ext cx="28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University of Applied Sciences </a:t>
            </a:r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and Arts - Dortmund - Germany</a:t>
            </a:r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pic>
        <p:nvPicPr>
          <p:cNvPr id="55" name="Picture 25" descr=""/>
          <p:cNvPicPr/>
          <p:nvPr/>
        </p:nvPicPr>
        <p:blipFill>
          <a:blip r:embed="rId2"/>
          <a:stretch/>
        </p:blipFill>
        <p:spPr>
          <a:xfrm>
            <a:off x="108000" y="0"/>
            <a:ext cx="8287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d8227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70080" y="1557360"/>
            <a:ext cx="754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4"/>
          </p:nvPr>
        </p:nvSpPr>
        <p:spPr>
          <a:xfrm>
            <a:off x="108000" y="6308280"/>
            <a:ext cx="8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31EE-01AE-489F-B4A5-5FF08B819B39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5"/>
          </p:nvPr>
        </p:nvSpPr>
        <p:spPr>
          <a:xfrm>
            <a:off x="1332000" y="6237000"/>
            <a:ext cx="518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6588000" y="6237360"/>
            <a:ext cx="2266920" cy="276480"/>
          </a:xfrm>
          <a:prstGeom prst="rect">
            <a:avLst/>
          </a:pr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98" name="Text Box 20"/>
          <p:cNvSpPr/>
          <p:nvPr/>
        </p:nvSpPr>
        <p:spPr>
          <a:xfrm rot="16200000">
            <a:off x="-780120" y="4556160"/>
            <a:ext cx="251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d8227"/>
                </a:solidFill>
                <a:latin typeface="Arial"/>
              </a:rPr>
              <a:t>EuroMPM</a:t>
            </a:r>
            <a:endParaRPr b="0" lang="en-US" sz="40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99" name="Text Box 21"/>
          <p:cNvSpPr/>
          <p:nvPr/>
        </p:nvSpPr>
        <p:spPr>
          <a:xfrm rot="16200000">
            <a:off x="-907200" y="1987560"/>
            <a:ext cx="283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University of Applied Sciences </a:t>
            </a:r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Dortmund Germany</a:t>
            </a:r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pic>
        <p:nvPicPr>
          <p:cNvPr id="100" name="Picture 22" descr=""/>
          <p:cNvPicPr/>
          <p:nvPr/>
        </p:nvPicPr>
        <p:blipFill>
          <a:blip r:embed="rId2"/>
          <a:stretch/>
        </p:blipFill>
        <p:spPr>
          <a:xfrm>
            <a:off x="108000" y="0"/>
            <a:ext cx="8287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cdd.gov.tr/tcdding/avrupa_ing.htmhttp://en.wikipedia.org/wiki/Turkish_State_Railways" TargetMode="External"/><Relationship Id="rId2" Type="http://schemas.openxmlformats.org/officeDocument/2006/relationships/hyperlink" Target="http://en.wikipedia.org/wiki/Istanbul_Sirkeci_railway_station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71400" y="214200"/>
            <a:ext cx="7242120" cy="25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5400" spc="-1" strike="noStrike">
                <a:solidFill>
                  <a:srgbClr val="000099"/>
                </a:solidFill>
                <a:latin typeface="Australian Sunrise"/>
                <a:ea typeface="宋体"/>
              </a:rPr>
              <a:t>Public Railways Transportation between </a:t>
            </a:r>
            <a:br>
              <a:rPr sz="5400"/>
            </a:br>
            <a:r>
              <a:rPr b="1" lang="en-US" sz="5400" spc="-1" strike="noStrike">
                <a:solidFill>
                  <a:srgbClr val="000099"/>
                </a:solidFill>
                <a:latin typeface="Australian Sunrise"/>
                <a:ea typeface="宋体"/>
              </a:rPr>
              <a:t>Turkey and Balkan States</a:t>
            </a:r>
            <a:br>
              <a:rPr sz="3600"/>
            </a:b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2071440" y="2785680"/>
            <a:ext cx="5832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  </a:t>
            </a:r>
            <a:r>
              <a:rPr b="1" lang="de-DE" sz="4000" spc="-1" strike="noStrike">
                <a:solidFill>
                  <a:srgbClr val="333399"/>
                </a:solidFill>
                <a:latin typeface="Australian Sunrise"/>
                <a:ea typeface="宋体"/>
              </a:rPr>
              <a:t>Presen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Australian Sunrise"/>
                <a:ea typeface="宋体"/>
              </a:rPr>
              <a:t> </a:t>
            </a:r>
            <a:r>
              <a:rPr b="1" lang="de-DE" sz="3200" spc="-1" strike="noStrike">
                <a:solidFill>
                  <a:srgbClr val="333399"/>
                </a:solidFill>
                <a:latin typeface="Australian Sunrise"/>
                <a:ea typeface="宋体"/>
              </a:rPr>
              <a:t>Baris Iz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0282-B8FA-4915-AE31-542D15C82A77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1332000" y="6237360"/>
            <a:ext cx="54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UBLIC RAILWAYS TRANSPORTATION BETWEEN TURKEY AND BALKAN STATES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357200" y="928800"/>
            <a:ext cx="7572600" cy="5143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9FFD-A9BB-4CF4-BF66-AB68E400D40F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83" name="Footer Placeholder 4"/>
          <p:cNvSpPr/>
          <p:nvPr/>
        </p:nvSpPr>
        <p:spPr>
          <a:xfrm>
            <a:off x="1332000" y="6237360"/>
            <a:ext cx="54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UBLIC RAILWAYS TRANSPORTATION BETWEEN TURKEY AND BALKAN STATES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1285920" y="500040"/>
            <a:ext cx="7429320" cy="5572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2d2d8a"/>
                </a:solidFill>
                <a:latin typeface="Arial"/>
              </a:rPr>
              <a:t>References</a:t>
            </a: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87280" y="2205000"/>
            <a:ext cx="756144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3a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cdd.gov.tr/tcdding/avrupa_ing.htmhttp://en.wikipedia.org/wiki/Turkish_State_Railways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a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a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a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wikipedia.org/wiki/Istanbul_Sirkeci_railway_station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a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3a1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921B-AE61-4D2B-9CC2-EF0BD18E2875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1332000" y="6237360"/>
            <a:ext cx="54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UBLIC RAILWAYS TRANSPORTATION BETWEEN TURKEY AND BALKAN STATES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57200" y="999720"/>
            <a:ext cx="75614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TURKISH STATE RAILWAYS</a:t>
            </a:r>
            <a:endParaRPr b="0" lang="en-US" sz="3200" spc="-1" strike="noStrike">
              <a:solidFill>
                <a:srgbClr val="3a19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19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a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1900"/>
                </a:solidFill>
                <a:latin typeface="Arial"/>
                <a:ea typeface="Times New Roman"/>
              </a:rPr>
              <a:t>One of the biggest state owned corporation</a:t>
            </a:r>
            <a:endParaRPr b="0" lang="en-US" sz="2800" spc="-1" strike="noStrike">
              <a:solidFill>
                <a:srgbClr val="3a19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ique operater of the domestic lines</a:t>
            </a:r>
            <a:endParaRPr b="0" lang="en-US" sz="2800" spc="-1" strike="noStrike">
              <a:solidFill>
                <a:srgbClr val="3a19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a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1900"/>
                </a:solidFill>
                <a:latin typeface="Arial"/>
                <a:ea typeface="Times New Roman"/>
              </a:rPr>
              <a:t>Member of InterRail</a:t>
            </a:r>
            <a:endParaRPr b="0" lang="en-US" sz="2800" spc="-1" strike="noStrike">
              <a:solidFill>
                <a:srgbClr val="3a19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nects Middle East- the Balkans –Europe</a:t>
            </a:r>
            <a:endParaRPr b="0" lang="en-US" sz="2800" spc="-1" strike="noStrike">
              <a:solidFill>
                <a:srgbClr val="3a19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prerates its trains to further European Countries with Interrail.</a:t>
            </a:r>
            <a:br>
              <a:rPr sz="3200"/>
            </a:br>
            <a:r>
              <a:rPr b="1" lang="de-DE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a1900"/>
              </a:solidFill>
              <a:latin typeface="Arial"/>
            </a:endParaRPr>
          </a:p>
        </p:txBody>
      </p:sp>
      <p:pic>
        <p:nvPicPr>
          <p:cNvPr id="141" name="Content Placeholder 6" descr="tcdd.jpg"/>
          <p:cNvPicPr/>
          <p:nvPr/>
        </p:nvPicPr>
        <p:blipFill>
          <a:blip r:embed="rId1"/>
          <a:stretch/>
        </p:blipFill>
        <p:spPr>
          <a:xfrm>
            <a:off x="3214800" y="142920"/>
            <a:ext cx="3571920" cy="1214280"/>
          </a:xfrm>
          <a:prstGeom prst="rect">
            <a:avLst/>
          </a:prstGeom>
          <a:ln w="0">
            <a:noFill/>
          </a:ln>
        </p:spPr>
      </p:pic>
      <p:sp>
        <p:nvSpPr>
          <p:cNvPr id="142" name="Slide Number Placeholder 4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421E-FFBF-4AE8-9341-09B70DECB8E8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43" name="Footer Placeholder 5"/>
          <p:cNvSpPr/>
          <p:nvPr/>
        </p:nvSpPr>
        <p:spPr>
          <a:xfrm>
            <a:off x="1332000" y="6237360"/>
            <a:ext cx="54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UBLIC RAILWAYS TRANSPORTATION SYSTEM BETWEEN TURKEY AND BALKAN  STATES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C37A-5880-47A4-83DD-63C93A6A96A4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1332000" y="6237360"/>
            <a:ext cx="54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UBLIC RAILWAYS TRANSPORTATION BETWEEN TURKEY AND BALKAN  STATES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1360" y="188640"/>
            <a:ext cx="8072280" cy="595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47" name="Rectangle 17"/>
          <p:cNvSpPr/>
          <p:nvPr/>
        </p:nvSpPr>
        <p:spPr>
          <a:xfrm>
            <a:off x="1403280" y="285840"/>
            <a:ext cx="709776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1900"/>
                </a:solidFill>
                <a:latin typeface="Australian Sunrise"/>
              </a:rPr>
              <a:t>     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Trains to the Balkans</a:t>
            </a:r>
            <a:endParaRPr b="0" lang="en-US" sz="3600" spc="-1" strike="noStrike">
              <a:solidFill>
                <a:srgbClr val="000000"/>
              </a:solidFill>
              <a:latin typeface="Australian Sunris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ustralian Sunris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1900"/>
                </a:solidFill>
                <a:latin typeface="Times New Roman"/>
                <a:ea typeface="Times New Roman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ustralian Sunris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19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en-US" sz="2800" spc="-1" strike="noStrike">
                <a:solidFill>
                  <a:srgbClr val="3a1900"/>
                </a:solidFill>
                <a:latin typeface="Arial"/>
                <a:ea typeface="Times New Roman"/>
              </a:rPr>
              <a:t>Bosphorus Express</a:t>
            </a:r>
            <a:endParaRPr b="0" lang="en-US" sz="2800" spc="-1" strike="noStrike">
              <a:solidFill>
                <a:srgbClr val="000000"/>
              </a:solidFill>
              <a:latin typeface="Australian Sunris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ustralian Sunrise"/>
            </a:endParaRPr>
          </a:p>
          <a:p>
            <a:pPr marL="343080" indent="-343080">
              <a:lnSpc>
                <a:spcPct val="100000"/>
              </a:lnSpc>
              <a:buClr>
                <a:srgbClr val="3a1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ustralian Sunrise"/>
            </a:endParaRPr>
          </a:p>
          <a:p>
            <a:pPr marL="343080" indent="-343080">
              <a:lnSpc>
                <a:spcPct val="100000"/>
              </a:lnSpc>
              <a:buClr>
                <a:srgbClr val="3a1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ustralian Sunris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ustralian Sunris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1900"/>
                </a:solidFill>
                <a:latin typeface="Times New Roman"/>
                <a:ea typeface="Times New Roma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ustralian Sunris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1900"/>
                </a:solidFill>
                <a:latin typeface="Arial"/>
                <a:ea typeface="Times New Roman"/>
              </a:rPr>
              <a:t>Filia Express</a:t>
            </a:r>
            <a:endParaRPr b="0" lang="en-US" sz="3200" spc="-1" strike="noStrike">
              <a:solidFill>
                <a:srgbClr val="000000"/>
              </a:solidFill>
              <a:latin typeface="Australian Sunrise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ustralian Sunrise"/>
            </a:endParaRPr>
          </a:p>
        </p:txBody>
      </p:sp>
      <p:pic>
        <p:nvPicPr>
          <p:cNvPr id="148" name="Picture 7" descr="Bosphorus-Europe-Express.jpg"/>
          <p:cNvPicPr/>
          <p:nvPr/>
        </p:nvPicPr>
        <p:blipFill>
          <a:blip r:embed="rId1"/>
          <a:stretch/>
        </p:blipFill>
        <p:spPr>
          <a:xfrm>
            <a:off x="1285920" y="2000160"/>
            <a:ext cx="3357360" cy="1803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dostluk_tr.jpg"/>
          <p:cNvPicPr/>
          <p:nvPr/>
        </p:nvPicPr>
        <p:blipFill>
          <a:blip r:embed="rId2"/>
          <a:stretch/>
        </p:blipFill>
        <p:spPr>
          <a:xfrm>
            <a:off x="4786200" y="3857760"/>
            <a:ext cx="3300480" cy="2350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66E9-5F82-4A60-A0C2-2984AEB512C0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1332000" y="6237360"/>
            <a:ext cx="54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UBLIC RAILWAYS TRANSPORTATION BETWEEN TURKEY AND BALKAN STATES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56840" y="50004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8a"/>
                </a:solidFill>
                <a:latin typeface="Arial"/>
                <a:ea typeface="Times New Roman"/>
              </a:rPr>
              <a:t>ROUTES</a:t>
            </a:r>
            <a:endParaRPr b="0" lang="en-US" sz="36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4280" y="1785600"/>
            <a:ext cx="756144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Times New Roman"/>
              </a:rPr>
              <a:t>Bosphorus Express</a:t>
            </a:r>
            <a:endParaRPr b="0" lang="en-US" sz="2800" spc="-1" strike="noStrike">
              <a:solidFill>
                <a:srgbClr val="3a19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19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3a1900"/>
                </a:solidFill>
                <a:latin typeface="Arial"/>
                <a:ea typeface="Times New Roman"/>
              </a:rPr>
              <a:t>Istanbul-Sofia-Belgrade-Bucharest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Times New Roman"/>
              </a:rPr>
              <a:t>Filia Express</a:t>
            </a:r>
            <a:endParaRPr b="0" lang="en-US" sz="2800" spc="-1" strike="noStrike">
              <a:solidFill>
                <a:srgbClr val="3a19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3a1900"/>
                </a:solidFill>
                <a:latin typeface="Arial"/>
                <a:ea typeface="Times New Roman"/>
              </a:rPr>
              <a:t>Istanbul-Alexandroupolis-Komotini-Xanthi-Drama-Serres-Kilkis-Salonika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E945-BD60-405B-B0A3-8B3A16695B43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1332000" y="6237360"/>
            <a:ext cx="54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UBLIC RAILWAYS TRANSPORTATION BETWEEN TURKEY AND BALKAN STATES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360" y="142920"/>
            <a:ext cx="7559640" cy="17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d2d8a"/>
                </a:solidFill>
                <a:latin typeface="Arial"/>
                <a:ea typeface="Times New Roman"/>
              </a:rPr>
              <a:t>FARES</a:t>
            </a:r>
            <a:br>
              <a:rPr sz="5400"/>
            </a:br>
            <a:r>
              <a:rPr b="1" lang="en-US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(TL)</a:t>
            </a:r>
            <a:br>
              <a:rPr sz="4400"/>
            </a:b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71760" y="1928520"/>
            <a:ext cx="757224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d8a"/>
                </a:solidFill>
                <a:latin typeface="Arial"/>
                <a:ea typeface="Times New Roman"/>
              </a:rPr>
              <a:t>Bosphorus Express</a:t>
            </a:r>
            <a:endParaRPr b="0" lang="en-US" sz="2800" spc="-1" strike="noStrike">
              <a:solidFill>
                <a:srgbClr val="3a19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643040" y="2643120"/>
          <a:ext cx="6095880" cy="28353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TE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Klas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Klas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tanbul-Sofia 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,6 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7 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tanbul-Belgrade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1,9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9 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tanbul-Bucharest 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,8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5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3E07-9544-4DD5-81C5-5FC7B40C9C91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1332000" y="6237360"/>
            <a:ext cx="54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UBLIC  RAILWAYS TRANSPORTATION BETWEEN TURKEY AND BALKAN STATES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85560" y="285840"/>
            <a:ext cx="7559640" cy="16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d2d8a"/>
                </a:solidFill>
                <a:latin typeface="Arial"/>
                <a:ea typeface="Times New Roman"/>
              </a:rPr>
              <a:t>FARES</a:t>
            </a:r>
            <a:br>
              <a:rPr sz="5400"/>
            </a:br>
            <a:r>
              <a:rPr b="1" lang="en-US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(TL)</a:t>
            </a:r>
            <a:br>
              <a:rPr sz="4400"/>
            </a:b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7280" y="1643040"/>
            <a:ext cx="75614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8a"/>
                </a:solidFill>
                <a:latin typeface="Arial"/>
                <a:ea typeface="Times New Roman"/>
              </a:rPr>
              <a:t>Bosphorus Express</a:t>
            </a:r>
            <a:endParaRPr b="0" lang="en-US" sz="2800" spc="-1" strike="noStrike">
              <a:solidFill>
                <a:srgbClr val="3a19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a1900"/>
                </a:solidFill>
                <a:latin typeface="Arial"/>
                <a:ea typeface="Times New Roman"/>
              </a:rPr>
              <a:t>Supplement Fares for Sleeping Cars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714680" y="2786040"/>
          <a:ext cx="6643440" cy="3317760"/>
        </p:xfrm>
        <a:graphic>
          <a:graphicData uri="http://schemas.openxmlformats.org/drawingml/2006/table">
            <a:tbl>
              <a:tblPr/>
              <a:tblGrid>
                <a:gridCol w="1660320"/>
                <a:gridCol w="1662120"/>
                <a:gridCol w="1660680"/>
                <a:gridCol w="1660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te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rist(2/3)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uble(2/2)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(1/1)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tanbul-Sofia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3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5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,1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tanbul-Belgrade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1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9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,8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tanbul-Bucharest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,9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55964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d2d8a"/>
                </a:solidFill>
                <a:latin typeface="Arial"/>
                <a:ea typeface="Times New Roman"/>
              </a:rPr>
              <a:t>FARES</a:t>
            </a:r>
            <a:br>
              <a:rPr sz="4800"/>
            </a:br>
            <a:r>
              <a:rPr b="1" lang="en-US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(TL)</a:t>
            </a:r>
            <a:endParaRPr b="0" lang="en-US" sz="20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4280" y="1499760"/>
            <a:ext cx="75614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FILIA EXPRESS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8DF3-0BB4-4B35-9968-FCCF135B6353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1332000" y="6237360"/>
            <a:ext cx="54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UBLIC RAILWAYS TRANSPORTATION BETWEEN TURKEY AND BALKAN STATES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214280" y="2286000"/>
          <a:ext cx="7286760" cy="3757680"/>
        </p:xfrm>
        <a:graphic>
          <a:graphicData uri="http://schemas.openxmlformats.org/drawingml/2006/table">
            <a:tbl>
              <a:tblPr/>
              <a:tblGrid>
                <a:gridCol w="2428920"/>
                <a:gridCol w="2428920"/>
                <a:gridCol w="24289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tes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Class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Class        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tanbul-Salonika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,9                                                   57         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t.-Kilkis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,2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,9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t.-Serres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,3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,8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t.-Drama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,3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,8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t.-Xanthi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,9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t.-Komotini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,2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,4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t.-Alexandroupolis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,1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,7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360" y="571320"/>
            <a:ext cx="75596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2d2d8a"/>
                </a:solidFill>
                <a:latin typeface="Arial"/>
                <a:ea typeface="Times New Roman"/>
              </a:rPr>
              <a:t>Decision Table</a:t>
            </a:r>
            <a:endParaRPr b="0" lang="en-US" sz="5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187280" y="2205000"/>
            <a:ext cx="7561440" cy="34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d2d8a"/>
                </a:solidFill>
                <a:latin typeface="Arial"/>
              </a:rPr>
              <a:t>Conditions</a:t>
            </a:r>
            <a:endParaRPr b="0" lang="en-US" sz="32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19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1900"/>
                </a:solidFill>
                <a:latin typeface="Arial"/>
              </a:rPr>
              <a:t>Destination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19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1900"/>
                </a:solidFill>
                <a:latin typeface="Arial"/>
              </a:rPr>
              <a:t>Preferred traveling Class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19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1900"/>
                </a:solidFill>
                <a:latin typeface="Arial"/>
              </a:rPr>
              <a:t>Willing to have sleeping cars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1900"/>
                </a:solidFill>
                <a:latin typeface="Arial"/>
              </a:rPr>
              <a:t>Action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1900"/>
                </a:solidFill>
                <a:latin typeface="Arial"/>
              </a:rPr>
              <a:t>a) Price in Turkish Lira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19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19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EA3E-FBA7-4633-8029-B6D96404E34F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1332000" y="6237360"/>
            <a:ext cx="54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UBLIC RAILWAYS TRANSPORTATION BETWEEN TURKEY AND BALKAN STATES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9720" y="21420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2d2d8a"/>
                </a:solidFill>
                <a:latin typeface="Arial"/>
              </a:rPr>
              <a:t>Decision Table</a:t>
            </a:r>
            <a:br>
              <a:rPr sz="4800"/>
            </a:br>
            <a:r>
              <a:rPr b="0" lang="de-DE" sz="4800" spc="-1" strike="noStrike">
                <a:solidFill>
                  <a:srgbClr val="2d2d8a"/>
                </a:solidFill>
                <a:latin typeface="Arial"/>
              </a:rPr>
              <a:t>Samples</a:t>
            </a: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9EB3-51B7-4E07-A79E-F14465FA4DE9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1332000" y="6237360"/>
            <a:ext cx="54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UBLIC RAILWAYS TRANSPORTATION BETWEEN TURKEY AND BALKAN STATES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214280" y="1643040"/>
            <a:ext cx="7715520" cy="4429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9T11:28:58Z</dcterms:created>
  <dc:creator>Fachbereich Wirtschaft</dc:creator>
  <dc:description/>
  <dc:language>en-US</dc:language>
  <cp:lastModifiedBy>USER</cp:lastModifiedBy>
  <dcterms:modified xsi:type="dcterms:W3CDTF">2009-10-12T21:58:35Z</dcterms:modified>
  <cp:revision>82</cp:revision>
  <dc:subject/>
  <dc:title>Simulation Methods and Educational Educational Games for Project Management</dc:title>
</cp:coreProperties>
</file>